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EBC3B-5A01-4C2F-84E9-C0EADD4C544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6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85A40-5699-41AB-90CB-BA2A1561944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6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2E37A-CFD1-4439-A48F-3895706D140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7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82FC6-8A84-4A6A-826C-3D826D69794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7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7A5FF-8107-4E49-9BE6-AB94417ADE9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7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099DB-F384-4E79-828F-A30CBA196D1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8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30FAA-FA8D-4E19-A181-6ECBC1FB539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8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A27C0-07B0-4A64-A1BB-87EB8FA4D46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8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07591-2133-46E9-B42D-BD72DC7D3A6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4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88B45-2443-43F2-87E4-7011896B2A8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4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C92CE-3FB4-4A20-81B2-A81624F8C74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5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255DE-506B-4C65-8359-521EA326AC9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5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B2FBA-9723-446D-A943-A9FECBDB23C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5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4B386-9D3A-4B52-BD23-94CBF07D80D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5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4E66B-4DCD-4AAC-BB68-4E4DF9DBD88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6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00C3D-09A0-44E3-923D-05D8CB7B2ED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2D1CE-7C23-4F70-BF88-B25F10C1B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66320" y="3942000"/>
            <a:ext cx="7620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9B72B-ECD6-4B6D-AD4A-2D92462E2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66320" y="394200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71240" y="394200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9E013-1BF9-4E03-AA76-DFE613F48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66320" y="394200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2840" y="394200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19360" y="394200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642B3-F2B6-49EA-9892-E887BF0B8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A5701-7BB7-4E2B-8A75-874307123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7B0D4-4257-4FEC-BEBE-FA355B213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0B440-7B10-476B-982E-F07EA69D4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198AA-16B6-4563-8ABE-F23F5B826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63E5E-07B5-4513-8A78-DF8A1BAB7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828800" y="456840"/>
            <a:ext cx="6858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E040B-3E22-43CC-A55C-C43F56417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066320" y="394200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209C9-1432-4F6A-9905-7A3E347BC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6EDFC-7B77-4CCE-814B-C890F72A2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71240" y="394200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AE7B0-5420-447E-AD08-B34CB88CF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42000"/>
            <a:ext cx="7620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5D7AE-E08A-404D-8AD6-217358EDA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066320" y="3942000"/>
            <a:ext cx="7620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93414-E585-4F32-9A6C-18BA82FB8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6320" y="394200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71240" y="394200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B2240-5808-4455-B1D4-A375AEE45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066320" y="394200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42840" y="394200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9360" y="394200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6BBA0-C43C-48F6-A67E-4FEC1F3FF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5323B-BFFD-4EB0-916E-CEE8EE88B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1B1CC-F635-4A2D-BCDD-77706E8C2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11109-0A62-45E1-860D-5A5229360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8800" y="456840"/>
            <a:ext cx="6858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4AA32-BABA-44F1-838B-4E21CB4AA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66320" y="394200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B66D4-9BE2-4273-8AEA-EC3F06775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71240" y="394200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B804A-5F34-48EE-9025-BAADCFDF7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6320" y="3942000"/>
            <a:ext cx="7620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B8C22-CF87-452F-9F25-5EA6B0BDD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0666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2864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E29D3-A876-40A4-AE12-9CC7342863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48517-3B39-43BF-8EEF-3D5814B934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99840" y="2356920"/>
            <a:ext cx="6140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3333cc"/>
                </a:solidFill>
                <a:latin typeface="HY울릉도M"/>
                <a:ea typeface="HY울릉도M"/>
              </a:rPr>
              <a:t>사회복지의 사상과 역사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411280" y="4723920"/>
            <a:ext cx="556272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제 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15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장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제식민시대의 사회복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17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통치와 사회복지사업의 시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Box 7"/>
          <p:cNvSpPr/>
          <p:nvPr/>
        </p:nvSpPr>
        <p:spPr>
          <a:xfrm>
            <a:off x="1476360" y="1268280"/>
            <a:ext cx="6692760" cy="19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공공부조제도의 시행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지조선의 경우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16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 「부조교정」이 최초의 공공부조법이었고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그것은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43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 「조선구호령」에 의해 대체되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본의 경우는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874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 최초의 구빈법인 휼구규칙이 제정되었고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그 후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34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에 구호법이 제정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20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통치와 사회복지사업의 시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Box 7"/>
          <p:cNvSpPr/>
          <p:nvPr/>
        </p:nvSpPr>
        <p:spPr>
          <a:xfrm>
            <a:off x="1476360" y="1268280"/>
            <a:ext cx="6692760" cy="320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실업문제와 취로사업 </a:t>
            </a: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: ‘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궁민구제토목사업</a:t>
            </a: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’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본에서 구호법이 시행되기 시작하던 시기에 조선에서 시행된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궁민구제토목사업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은 주목할 만한 사업임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그것은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31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부터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33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까지 시행된 농촌의 인프라 정비와 취로사업이라는 두 개의 목적을 가진 사업이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다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조선인 노동자는 일본인 노동자의 절반 정도의 임금을 받는 등의 차별처우가 여전히 있었고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 사업 자체가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3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간의 단기사업이었다는 한계가 있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23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구빈행정과 공사관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Box 7"/>
          <p:cNvSpPr/>
          <p:nvPr/>
        </p:nvSpPr>
        <p:spPr>
          <a:xfrm>
            <a:off x="1476360" y="1268280"/>
            <a:ext cx="6692760" cy="491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구빈행정의 정비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10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 이후 구휼 및 자선사업은 총독부의 지방국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지방과에서 담당하였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그 후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21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7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월 내무국에 사회과가 신설되었는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회과가 담당하는 사회사업의 범주에는 사회교육사업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임시적 사회구제사업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반사회사업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경제보호사업 등이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포함되어 있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32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월 사회과는 내무국에서 학무국으로 개편되었는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때 종래의 구빈방빈부문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보건진료부문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아동보호부문에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노동보호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농촌진흥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자력갱생운동 등의 사회교화사업이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급속하게 확장되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26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구빈행정과 공사관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Box 7"/>
          <p:cNvSpPr/>
          <p:nvPr/>
        </p:nvSpPr>
        <p:spPr>
          <a:xfrm>
            <a:off x="1476360" y="1268280"/>
            <a:ext cx="6692760" cy="18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38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에는 각도에 사회과가 신설되어 전국적인 전달체계가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만들어졌고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1940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에는 사회과에서 노동행정사무를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분리하여 노무과가 신설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러한 체제가 해방 때까지 이어졌고  한국사회복지전달체계의 기초가 되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29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구빈행정과 공사관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Box 7"/>
          <p:cNvSpPr/>
          <p:nvPr/>
        </p:nvSpPr>
        <p:spPr>
          <a:xfrm>
            <a:off x="1476360" y="1268280"/>
            <a:ext cx="6692760" cy="45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국가시설운영과 민간시설보조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상의 공공전달체계와는 별도로 총독부 직속사업으로서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11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6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월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제생원규정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에 의해 제생원이 설치되어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양육부와 맹아부로 나누어서 아동과 장애아동을 보호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개항 이후 조선에는 선교사들이 중심이된 다수의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회복지시설이 설립되어 있었는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러한 복지실천에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대해서는 정부보조금이 지급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보조금제도를 활용하여 민간에 복지사업을 위탁하게 하는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형식은 사회복지시설의 운영에 국한된 것이 아니라 일시적인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복지사업에 있어서도 행해짐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32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구빈행정과 공사관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Box 7"/>
          <p:cNvSpPr/>
          <p:nvPr/>
        </p:nvSpPr>
        <p:spPr>
          <a:xfrm>
            <a:off x="1476360" y="1268280"/>
            <a:ext cx="6692760" cy="41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방면위원제도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 제도의 기원은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17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 오카야마의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제세고문제도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18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의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오사카부방면위원규정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에 근거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방면위원은 민간독지가의 신분으로서 빈곤자의 생활을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조사하고 필요한 원조를 제공하였는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그 배경에 자본주의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모순에 의한 사회불안이 있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방면위원의 임무는 지역 내의 빈곤생활자 조사를 위시하여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복지문제와 관련된 제반 조사였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35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제시대의 유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Box 7"/>
          <p:cNvSpPr/>
          <p:nvPr/>
        </p:nvSpPr>
        <p:spPr>
          <a:xfrm>
            <a:off x="1476360" y="1268280"/>
            <a:ext cx="6692760" cy="53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사회복지의 기반과 유산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커밍스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(2012)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는 일제가 남긴 것으로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비교적 잘 발달된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교통망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세계시장시스템과 조선을 연결시킨 것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근대적인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기술을 가진 인력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고도로 체계화된 관료조직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을 들고 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그 중에서도 중요한 것은 조직된 관료조직과 기본교육의 보급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회복지제도의 기반에 관한 부분에서는 호적제도가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확립되었는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그것은 백정의 신분도 호적을 갖게 됨을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의미하였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경제영역에서는 자본주의적 경제질서가 강화되었고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유재산제도가 정착되어 갔으며 사법의 영역에서는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법치적 문화가 강화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38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제시대의 유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Box 7"/>
          <p:cNvSpPr/>
          <p:nvPr/>
        </p:nvSpPr>
        <p:spPr>
          <a:xfrm>
            <a:off x="1476360" y="1268280"/>
            <a:ext cx="6692760" cy="45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잔여적 복지모형과 사회복지의 새로운 시도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제의 복제실천은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바람직한 복지실천의 모델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을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제시하지 못했고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결국 그것을 통하여 선별주의적이고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잔여적인 복지모델을 한국 사회에 이식하는 결과를 가져옴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HY울릉도M"/>
                <a:ea typeface="HY울릉도M"/>
              </a:rPr>
              <a:t>※ </a:t>
            </a:r>
            <a:r>
              <a:rPr b="0" lang="ko-KR" sz="2000" spc="-1" strike="noStrike">
                <a:solidFill>
                  <a:srgbClr val="00664d"/>
                </a:solidFill>
                <a:latin typeface="HY울릉도M"/>
                <a:ea typeface="HY울릉도M"/>
              </a:rPr>
              <a:t>복지제도의 발전이라고 볼 수 있는 변화의 조짐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첫째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복지문제에 대한 새로운 대처방식이 시도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둘째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회복지문제에 대한 과학적인 조사가 진척되어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       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빈곤이나 장애인문제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주택문제 등에 관한 기초자료가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       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축적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20920" y="2572920"/>
            <a:ext cx="613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HY울릉도M"/>
                <a:ea typeface="HY울릉도M"/>
              </a:rPr>
              <a:t>Thank you!!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2411280" y="4723920"/>
            <a:ext cx="556272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HY울릉도M"/>
                <a:ea typeface="HY울릉도M"/>
              </a:rPr>
              <a:t>-Next-</a:t>
            </a:r>
            <a:r>
              <a:rPr b="0" lang="ko-KR" sz="3200" spc="-1" strike="noStrike">
                <a:solidFill>
                  <a:srgbClr val="ff0000"/>
                </a:solidFill>
                <a:latin typeface="HY울릉도M"/>
                <a:ea typeface="HY울릉도M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제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16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장 미군정기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한국전쟁과 사회복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92" name="제목 1"/>
          <p:cNvSpPr/>
          <p:nvPr/>
        </p:nvSpPr>
        <p:spPr>
          <a:xfrm>
            <a:off x="1432080" y="360360"/>
            <a:ext cx="740700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다룰 내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부제목 2"/>
          <p:cNvSpPr/>
          <p:nvPr/>
        </p:nvSpPr>
        <p:spPr>
          <a:xfrm>
            <a:off x="1432080" y="1700280"/>
            <a:ext cx="7589520" cy="46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41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HY울릉도M"/>
                <a:ea typeface="HY울릉도M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지 시기를 전후한 제도의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  </a:t>
            </a:r>
            <a:r>
              <a:rPr b="0" lang="ko-KR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연속성과 단절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HY울릉도M"/>
                <a:ea typeface="HY울릉도M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전통적 빈곤문제의 심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HY울릉도M"/>
                <a:ea typeface="HY울릉도M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통치와 사회복지사업의 시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HY울릉도M"/>
                <a:ea typeface="HY울릉도M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구빈행정과 공사관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HY울릉도M"/>
                <a:ea typeface="HY울릉도M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제시대의 유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95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지 시기를 전후한 제도의                   연속성과 단절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Box 7"/>
          <p:cNvSpPr/>
          <p:nvPr/>
        </p:nvSpPr>
        <p:spPr>
          <a:xfrm>
            <a:off x="1476360" y="1268280"/>
            <a:ext cx="6692760" cy="315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식민지 직전의 조선사회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 시기 민중의 생활은 극도로 피폐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삼정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三政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의 문란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紊亂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은 이 시대의 사회상을 적나라하게 보여주며 농사에 대한 세금과 군역의 의무에 관해서 관리들은 온갖 구실을 붙여서 법으로 정해진 세금 이상의 부담을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민중에 지웠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양반을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민중의 피를 빨아먹는 기생충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라고 표현한 서양인 여행자의 표현은 오히려 자비스러울 정도임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98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지 시기를 전후한 제도의                   연속성과 단절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Box 7"/>
          <p:cNvSpPr/>
          <p:nvPr/>
        </p:nvSpPr>
        <p:spPr>
          <a:xfrm>
            <a:off x="1476360" y="1268280"/>
            <a:ext cx="6692760" cy="263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식민지근대화론과 </a:t>
            </a: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‘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개발 없는 개발</a:t>
            </a: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’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의 검토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90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을 전후하여 한국에서는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지근대화론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 제기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 논의는 식민지수탈론자들에 의한 역사왜곡을 지적하고 지나친 그들의 민족주의적 관점을 비판하여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안이하고 감정적인 역사연구의 경향에 경종을 울렸다는 점에서는 의미가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있는 논의였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01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지 시기를 전후한 제도의                   연속성과 단절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Box 7"/>
          <p:cNvSpPr/>
          <p:nvPr/>
        </p:nvSpPr>
        <p:spPr>
          <a:xfrm>
            <a:off x="1476360" y="1268280"/>
            <a:ext cx="6692760" cy="31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HY울릉도M"/>
                <a:ea typeface="HY울릉도M"/>
              </a:rPr>
              <a:t>※ </a:t>
            </a:r>
            <a:r>
              <a:rPr b="0" lang="ko-KR" sz="2000" spc="-1" strike="noStrike">
                <a:solidFill>
                  <a:srgbClr val="00664d"/>
                </a:solidFill>
                <a:latin typeface="HY울릉도M"/>
                <a:ea typeface="HY울릉도M"/>
              </a:rPr>
              <a:t>사회복지의 시각에서 볼 때 식민지근대화론자의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HY울릉도M"/>
                <a:ea typeface="HY울릉도M"/>
              </a:rPr>
              <a:t>    </a:t>
            </a:r>
            <a:r>
              <a:rPr b="0" lang="ko-KR" sz="2000" spc="-1" strike="noStrike">
                <a:solidFill>
                  <a:srgbClr val="00664d"/>
                </a:solidFill>
                <a:latin typeface="HY울릉도M"/>
                <a:ea typeface="HY울릉도M"/>
              </a:rPr>
              <a:t>주장에 받아들이기 어려운 논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첫째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공리주의적이라는 점에서 비판의 여지가 큼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둘째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산업혁명에 관한 토인비와 아슈톤의 논쟁을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       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연상시키는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회의 상태는 반드시 통계자료에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       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의해서는 증명하기 어려운 무엇이 있다는 중요한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       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실을 그 논쟁이 상기시켜주기 때문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04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전통적 빈곤문제의 심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Box 7"/>
          <p:cNvSpPr/>
          <p:nvPr/>
        </p:nvSpPr>
        <p:spPr>
          <a:xfrm>
            <a:off x="1476360" y="1268280"/>
            <a:ext cx="6692760" cy="37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토지조사와 그 영향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10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부터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18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까지 일제는 막대한 자금과 인력을 투입하여 식민지조선에 대한 대대적이고 철저한            토지조사를 실시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b050"/>
                </a:solidFill>
                <a:latin typeface="HY울릉도M"/>
                <a:ea typeface="HY울릉도M"/>
              </a:rPr>
              <a:t>토지조사의 목적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은 식민지를 상대로 한 토지조사이므로 그 것이 넓은 의미에서 수탈을 위한 조사였다는 것은 명약관화한 일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토지소유를 명확하게 하고 소유자에게 법적인 권리를 부여하는 것은 근대자본주의의 근간을 이루는 사유권 절대의 원칙이 실현된 것으로 볼 수 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현실적으로 볼 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토지조사는 식민통치의 재원이 되는 토지세를 확보하기 위한 조치였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07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전통적 빈곤문제의 심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Box 7"/>
          <p:cNvSpPr/>
          <p:nvPr/>
        </p:nvSpPr>
        <p:spPr>
          <a:xfrm>
            <a:off x="1476360" y="1268280"/>
            <a:ext cx="6692760" cy="221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빈곤의 심화와 소작농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회경제적 배경으로 발생하는 빈곤으로서 중시할 것은 소작농의 급증과 도시빈민층의 형성임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제시대 한국의 소작농은 세계에서도 유례를 찾아보기 힘든 극도의 착취와 비참한 생활을 하였다고 지적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2"/>
          <a:stretch/>
        </p:blipFill>
        <p:spPr>
          <a:xfrm>
            <a:off x="1187280" y="3429000"/>
            <a:ext cx="7377120" cy="30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11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전통적 빈곤문제의 심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Box 7"/>
          <p:cNvSpPr/>
          <p:nvPr/>
        </p:nvSpPr>
        <p:spPr>
          <a:xfrm>
            <a:off x="1476360" y="1268280"/>
            <a:ext cx="6692760" cy="320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토막민문제에 관하여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20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대 이후 도시빈곤의 상징과 같은 것이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토막민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의 존재였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토막민은 단순한 빈곤층의 생성이라는 것뿐 아니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한국 사회의 전통적인 주거의 열악성을 상징하는 것으로 봄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제의 토지조사가 끝나는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20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대가 되면 몰락한 농민이 농촌을 떠나게 되면서 토막민의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집단주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가 형성되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14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통치와 사회복지사업의 시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Box 7"/>
          <p:cNvSpPr/>
          <p:nvPr/>
        </p:nvSpPr>
        <p:spPr>
          <a:xfrm>
            <a:off x="1476360" y="1268280"/>
            <a:ext cx="6692760" cy="43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식민지시대의 시기구분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① </a:t>
            </a:r>
            <a:r>
              <a:rPr b="0" lang="ko-KR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무단통치기간</a:t>
            </a:r>
            <a:r>
              <a:rPr b="0" lang="en-US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(1910~1919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②</a:t>
            </a:r>
            <a:r>
              <a:rPr b="0" lang="en-US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문화정치기간</a:t>
            </a:r>
            <a:r>
              <a:rPr b="0" lang="en-US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(1920~193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③</a:t>
            </a:r>
            <a:r>
              <a:rPr b="0" lang="en-US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대륙침략병참기지기간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은사금이라는 사회복지 재원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b050"/>
                </a:solidFill>
                <a:latin typeface="HY울릉도M"/>
                <a:ea typeface="HY울릉도M"/>
              </a:rPr>
              <a:t>은사금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은 직접 사업비로 사용하는 것이 아니라 그것을 기금으로 삼고 그 이자수입으로 사업비를 충당하는 형식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은사금의 용도 중 가장 큰 몫을 차지하는 것은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수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授産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과 교육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기근구제의 항목인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 항목은 사회복지사업과 직접적으로 관련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1T04:24:23Z</dcterms:created>
  <dc:creator>LG</dc:creator>
  <dc:description/>
  <dc:language>en-US</dc:language>
  <cp:lastModifiedBy>LG</cp:lastModifiedBy>
  <dcterms:modified xsi:type="dcterms:W3CDTF">2014-03-18T07:35:34Z</dcterms:modified>
  <cp:revision>539</cp:revision>
  <dc:subject/>
  <dc:title>사회복지의 사상과 역사</dc:title>
</cp:coreProperties>
</file>